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74A6A-6E4F-494E-B557-D6CDEB98D18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193E-1ACF-406A-861B-A73E59882E1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3C75-6E8C-4F3C-A8F6-9064903B864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681D-6DB9-438F-BEF0-0AC754F5C5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684E2-E3CD-4663-B3AE-62B418C1DE2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5690-9DF0-4B67-932F-A7F8FEA09E4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B42F-15DF-42AB-9A9E-62895EAAE9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A74C-74FD-438C-B69C-77B5AEF01AF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C56EA-ACB9-4B62-877F-D9F739CA8EE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0DC2-DE3C-48E0-BE7F-DB8E1E26241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9F1-AD66-4F4E-999D-724F44E5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2754-C319-4E11-91C9-A6F7926DE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23F4-B9E0-4FB7-AA98-4D3768BF0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BF1C-65A2-43A6-9D6E-65913E9FD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7137-3291-4435-BA05-4716A29DF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754B-EA48-463E-8F5B-235AE2BAD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3CC-7A8F-489F-8A81-AB36772A6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AAAA-5CF4-430B-924D-5FFCFF77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FA6D-66BD-4D48-A130-7A1E64347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1229-080B-44C2-BFAD-4FC6426A5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9F8C-DF96-42F2-8444-B87127F8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05D2-0C56-4F34-AE1F-6D3E558A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653E-CB7F-4065-9662-DCB633278AFE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jlassonde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jlassonde.com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135640" cy="381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000" spc="-1" strike="noStrike">
                <a:solidFill>
                  <a:srgbClr val="000000"/>
                </a:solidFill>
                <a:latin typeface="Arial"/>
              </a:rPr>
              <a:t>Groupe d’entraide aux personnes francophones LGBTQI nouvellement arrivées au Canada de FrancoQue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1447920" y="4572000"/>
            <a:ext cx="6400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par Me Julie Lassonde, animatrice bénévole du grou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www.jlassonde.com</a:t>
            </a: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4920" y="1904760"/>
            <a:ext cx="8534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27 octobre 2012: Réflexion stratégique de FrancoQu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ous-groupe sur les minorités dans la minorité et sur la justice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7 réunions en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Évaluation du groupe effectuée en août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onctionnement du group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04920" y="159984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n franç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fident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5 ou 6 réunions en personne par anné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emboursement de tokens, nourriture et boissons quand c’est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e animatrice bénévo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 ou une membre bénévole du conseil d’administration de FrancoQu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s personnes participantes s’entraident entre les réun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Qui participe au group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04920" y="160020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ntre 4 et 9 person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sonnes LGBTQI et allié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as d’obligation de s’identifier sur le plan de l’orientation sexu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Femmes et hom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jorité de personnes africaines nouvellement arrivées au Can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moign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groupe m’a aidée à m’exprimer, à être plus à l’aise. Ça a soulevé un poids que je portais. Ça m’a donné un soutien moral et psychologique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Ça m’a donné du courage. J’ai vécu beaucoup d’émotions. J’en ai appris sur différents pays. Je me sens maintenant à l’aise de parler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J’ai senti une différence dans mon bien-être avant d’avoir participé au groupe et après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émoigna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04920" y="1600200"/>
            <a:ext cx="85341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Nous sommes là pour les autres et pour soi, peu importe si les nouvelles sont bonnes ou mauvaises sur le plan de l’immigration et du statut de personne réfugiée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Le groupe accepte toutes les couleurs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Je suis en situation de stress constant et ça me soulage à chaque fois que je viens à une réunion.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04920" y="15235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a un impact limité sur les démarches juridiques de ses memb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ttre de soutien de Francoqu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Témoignage de memb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artage d’expériences et apprentissage à travers les aut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ne peut fournir de conseils juridi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groupe ne peut donner d’aide finan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ven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Augmenter le nombre de personnes participantes sans perdre la qualité de l’inter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rganiser d’autres so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Ouvrir un café LGBTQ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Recherche de financement de FQ auprès du ministère des affaires civiques et de l’immigration de l’Ontario en 2013. Y aura-t-il des sui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Merc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lie Lasso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vocate, chercheure &amp; traductr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Montréal 514-839-8727 / Toronto 416-837-835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julie@jlasson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cc3300"/>
                </a:solidFill>
                <a:uFillTx/>
                <a:latin typeface="Arial"/>
                <a:hlinkClick r:id="rId1"/>
              </a:rPr>
              <a:t>www.jlassonde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FrancoQue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www.francoqueer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17:22:55Z</dcterms:created>
  <dc:creator>Julie Lassonde</dc:creator>
  <dc:description/>
  <dc:language>en-US</dc:language>
  <cp:lastModifiedBy>ltshiswaka</cp:lastModifiedBy>
  <cp:lastPrinted>2013-10-03T23:44:44Z</cp:lastPrinted>
  <dcterms:modified xsi:type="dcterms:W3CDTF">2013-11-12T18:55:13Z</dcterms:modified>
  <cp:revision>530</cp:revision>
  <dc:subject/>
  <dc:title>Diapositive 1</dc:title>
</cp:coreProperties>
</file>